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2953-045C-45A7-8A1E-D42D0D9D5D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2C2-DCE3-49FF-A9A2-C344DEFB4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B033-D2D9-4444-B509-EC35C83C1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44C-B126-4E6E-8622-5E4A711A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E8D-1494-41D2-BD8A-82F8F42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409-ECFA-4941-A2DB-AEA013BF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FE6-AD7C-4C33-B646-2F05966B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E0D4-E9F0-45AF-BB1A-385B5FB6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B47E-97A9-46F1-BA6F-2A03A092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507-88E5-4678-9D2A-62442ADF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7AD8-3893-4299-996F-E8B3F327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515F-5F48-4FFC-B23C-F38B48E8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B07A-167C-4F31-A097-4229B9E5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A221-3632-4EA2-9DC4-8991803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35C-5F86-413B-91A3-6A4B0E4B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9C99-324B-4870-8636-994E7455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E02D-D600-4E5B-A201-7582BFD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412C-EDA2-4096-A094-5928493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B7D0-D2DD-46FD-92DF-B0F102E6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1B0B-79DF-4157-A7B8-8E89C48F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724B6-DE23-46DD-9DC3-CEBF9C3C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FB21D-7E46-4E04-9436-BE262F5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0BB41-7879-4097-A379-51568516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36875-E5AB-494A-AFD6-10B9C99C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47EBF-795C-47F2-92EA-E0C6AB7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C17-417D-437E-9874-2FA94879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D1B70-C6D0-46AB-91E8-A5C19E16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5A724-8635-4237-93FA-4A1F1C6D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B331C-FAE9-4E25-AA6B-9F7DBD6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5857A-946D-40FD-B8FC-285429C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B9314-1522-4753-A298-1EDBC900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871D9-3F91-4772-B207-6935DA34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548FC-DC68-4395-B313-902D870E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EAD9-45E1-4F5E-A466-63C31FF7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8932-3877-474C-9C59-846A6B2F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54C8-F2D1-4F48-835A-3B869BF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4D6-FD60-4283-946C-666DE422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1BE3D-DC97-4F2D-8DDE-6A97713C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F37F-F770-4268-9131-94E14A6E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871A-A785-4EFB-81C0-B0204982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D0FF-31A9-44C2-900E-D3CA905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FF7B7-FD7C-4FBB-9D41-FCDF783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1826-B71A-49BE-9CDF-F646E12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5232-D9C2-47E0-8B3C-A1C9F8D5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F541-144A-4C68-9EC2-946EFC79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AB57-0789-456C-83C9-BE5ECB46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14437-099D-4952-86A1-3E797CEA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0C5-5639-4E4C-85B2-3720C31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78466-09CE-4437-B86C-E8A2B8E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E14C5-1C35-4B25-B27C-8462900B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EBC8F-BE8C-4794-A01B-F0AC2E3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46F5C-8CF6-45EE-B490-8C3E41F2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60021-FEF9-41D6-870C-301C406B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29764-9E88-42EC-9D21-9029DDF9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85F31-8CBF-4FAC-806C-893254E5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16234-5748-4EF5-A244-13279032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69869-9DCD-4649-B5AE-21892E97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B46EC-C3C1-4D8D-8C82-7A632F9D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A2A-4476-4560-B014-69AD61BB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12454-78E7-46D2-99BD-B7977D38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40D48-10AC-44BA-8B09-95BDD563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E76C2-C012-48DC-A4A1-DD2C8392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7BB26-6EB1-4083-B42B-EFEE0C06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076D3-5FAC-4F6A-958C-6EC7867C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22F3F-F548-4682-B78D-B7A536CD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ECD46-87D4-42BB-9E1D-C711B5C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D038B-0E5A-4B8A-9D05-ED27789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60CF3-CCCC-4A84-9417-B797EBA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3681A-62CA-44A4-BE7B-0D45028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8DD-8DF1-43FF-AA8F-24CF12C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A8BE7-E000-4C59-A6A8-1587557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7BCBA-7D55-4DD2-AF9B-A9111EDB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DC7E4-A758-4C59-A6C4-D32F9FF7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85DDA-B5B6-4BD6-B2AE-93544E8B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6151A-B339-47E1-8DB9-6D73FE50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C37AD-1D7A-4401-9D9C-6BE07237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51985-36F9-4815-BEEE-75E08A18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64421-ED60-4BD2-AC68-FE2EE6A5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D8FE1-40DE-466D-99D7-9466A3E9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DEC06-E42B-41DC-88D0-FE9A020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944-4762-437C-8784-2D68DE9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62707-996F-4003-8D9E-0256232C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18A65-6929-474F-9079-CD0F47E2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558C3-0DA5-4EDE-9D09-6DD28B63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36B1A-8CF0-4A20-8172-F0452646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CA384-DF7F-4A65-BB7F-FE0D4F97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CA5-E586-4210-A63F-CD9572D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D276-A8E2-4156-A52F-78B9CE0BB8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5E93-9E51-49B2-B756-09B50C11B0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5B94-4912-4BC6-8F2E-06BDC110A3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ED52-9447-45F0-AE63-57A71E4733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7170-44DD-435D-B5C0-6CF543BFE1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C260-18C3-4482-A81E-51FE32395B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C94D-8FD9-40AC-BC97-7F30A095F1D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entury Schoolbook"/>
              </a:rPr>
              <a:t>ТЕМА УРОКА “ТАБЛИЧНЫЕ МОДЕЛИ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Century Schoolbook"/>
              </a:rPr>
              <a:t>Хузина Рамиля Мударисовна, учитель информатики МБОУ “Школа №55”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ТАБЛИЦА ТИПА «ОБЪЕКТ-ОБЪЕКТ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79280" y="2133720"/>
          <a:ext cx="8569440" cy="2808000"/>
        </p:xfrm>
        <a:graphic>
          <a:graphicData uri="http://schemas.openxmlformats.org/drawingml/2006/table">
            <a:tbl>
              <a:tblPr/>
              <a:tblGrid>
                <a:gridCol w="1960560"/>
                <a:gridCol w="1308240"/>
                <a:gridCol w="1308240"/>
                <a:gridCol w="1076040"/>
                <a:gridCol w="1308240"/>
                <a:gridCol w="1608120"/>
              </a:tblGrid>
              <a:tr h="84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е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ус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лге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</a:tr>
              <a:tr h="49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икин П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49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тов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9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лков 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49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алкина 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</a:tbl>
          </a:graphicData>
        </a:graphic>
      </p:graphicFrame>
      <p:sp>
        <p:nvSpPr>
          <p:cNvPr id="403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423280" y="635328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ДВОИЧНАЯ МАТРИЦ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423280" y="635328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9280" y="2133720"/>
          <a:ext cx="8569440" cy="2808000"/>
        </p:xfrm>
        <a:graphic>
          <a:graphicData uri="http://schemas.openxmlformats.org/drawingml/2006/table">
            <a:tbl>
              <a:tblPr/>
              <a:tblGrid>
                <a:gridCol w="1960560"/>
                <a:gridCol w="1308240"/>
                <a:gridCol w="1308240"/>
                <a:gridCol w="1076040"/>
                <a:gridCol w="1308240"/>
                <a:gridCol w="1608120"/>
              </a:tblGrid>
              <a:tr h="84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е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ус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лге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</a:tr>
              <a:tr h="49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икин П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49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тов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9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лков 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49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алкина 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78920" y="188640"/>
            <a:ext cx="7745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тыре футбольных команды: итальянская команда «Милан», испанская – «Реал», российская – «Зенит», английская – «Челси» встретились в групповом этапе лиги чемпионов по футболу. Их тренировали тренеры из этих же четырех стран: итальянец Антонио, испанец Родриго, русский Николай, англичанин Джон. Известно, что национальность у всех четырех тренеров не совпадала с национальностью команд. Требуется определить тренера каждой команды, если известно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 Зенит не тренируется у Джона и Антонио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 Милан обещал никогда не брать Джона главным тренером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79280" y="1600200"/>
          <a:ext cx="8569440" cy="3916440"/>
        </p:xfrm>
        <a:graphic>
          <a:graphicData uri="http://schemas.openxmlformats.org/drawingml/2006/table">
            <a:tbl>
              <a:tblPr/>
              <a:tblGrid>
                <a:gridCol w="1351080"/>
                <a:gridCol w="2076480"/>
                <a:gridCol w="1714320"/>
                <a:gridCol w="1712880"/>
                <a:gridCol w="1714680"/>
              </a:tblGrid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Антони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Родри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Никол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Дж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Мил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Ре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8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Зе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Чел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600200"/>
          <a:ext cx="8291520" cy="3484440"/>
        </p:xfrm>
        <a:graphic>
          <a:graphicData uri="http://schemas.openxmlformats.org/drawingml/2006/table">
            <a:tbl>
              <a:tblPr/>
              <a:tblGrid>
                <a:gridCol w="1306440"/>
                <a:gridCol w="2009880"/>
                <a:gridCol w="1658880"/>
                <a:gridCol w="1657440"/>
                <a:gridCol w="1658880"/>
              </a:tblGrid>
              <a:tr h="69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Антони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Родри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Никол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Дж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9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Мил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9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Ре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9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Зе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9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Чел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8920" y="-360"/>
            <a:ext cx="842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ятеро одноклассников - Ирина, Тимур, Камилла, Антон и Дамир стали победителями олимпиад школьников по физике, математике, информатике, литературе и географии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Известно, что : победитель олимпиады по информатике учит Ирину и Тимура работе на компьютере; Камилла и Антон тоже заинтересовались информатикой; Тимур всегда побаивался физики; Камилла, Тимур и победитель олимпиады по литературе занимаются плаванием; Тимур и Камилла поздравили победителя олимпиады по математике; Ирина сожалеет о том, что у нее остается мало времени на литературу. Победителем какой олимпиады стал каждый из этих ребят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79280" y="1600200"/>
          <a:ext cx="8496360" cy="3557520"/>
        </p:xfrm>
        <a:graphic>
          <a:graphicData uri="http://schemas.openxmlformats.org/drawingml/2006/table">
            <a:tbl>
              <a:tblPr/>
              <a:tblGrid>
                <a:gridCol w="1656000"/>
                <a:gridCol w="1368360"/>
                <a:gridCol w="1224000"/>
                <a:gridCol w="1643040"/>
                <a:gridCol w="1339920"/>
                <a:gridCol w="126504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физик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мате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информ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лит-р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Геогр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Ирин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9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Тиму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Камилл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9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Анто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Дами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79280" y="1600200"/>
          <a:ext cx="8496360" cy="3557520"/>
        </p:xfrm>
        <a:graphic>
          <a:graphicData uri="http://schemas.openxmlformats.org/drawingml/2006/table">
            <a:tbl>
              <a:tblPr/>
              <a:tblGrid>
                <a:gridCol w="1656000"/>
                <a:gridCol w="1368360"/>
                <a:gridCol w="1224000"/>
                <a:gridCol w="1643040"/>
                <a:gridCol w="1339920"/>
                <a:gridCol w="126504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физик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мате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информ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лит-р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Геогр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Ирин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9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Тиму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Камилл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9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Анто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Дами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79280" y="-360"/>
            <a:ext cx="8569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течение последних четырех лет Алексеев, Фомин, Дементьев и Иванов получали очередной отпуск в мае, июне, июле или в августе. Причем, если один из них отдыхал в мае, то другой - в июне, третий – в июле, а четвертый – в августе. Каждый их них получал отпуск в эти четыре года в разные месяцы. Так в первый год Дементьев отдыхал в июле, во второй год – в августе. Алексеев во второй год отдыхал в мае, Иванов в третий год – в июне, а Фомин в четвертый год – в июл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Кто в каком месяце отдыхал в каждом из этих четырех лет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79280" y="1600200"/>
          <a:ext cx="8569440" cy="4349880"/>
        </p:xfrm>
        <a:graphic>
          <a:graphicData uri="http://schemas.openxmlformats.org/drawingml/2006/table">
            <a:tbl>
              <a:tblPr/>
              <a:tblGrid>
                <a:gridCol w="1871640"/>
                <a:gridCol w="1555920"/>
                <a:gridCol w="1714320"/>
                <a:gridCol w="1712880"/>
                <a:gridCol w="171468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–й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–й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–й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–й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6976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ексе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7012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о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6976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менть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7012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550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«МОДЕЛИРОВАНИЕ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258920" y="2060280"/>
            <a:ext cx="7634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Kahoot.i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имфонический оркестр приняли на работу трёх музыкантов: Брауна, Смита и Джона, умеющих играть на скрипке, флейте, альте, кларнете, гобое и трубе. Известно, чт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ит самый высок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ающий на скрипке меньше ростом играющего на флейт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ающие на скрипке и флейте и Браун любят пицц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гда между альтистом и трубачом возникает ссора, Смит мирит и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раун не умеет играть ни на трубе, ни на гоб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каких инструментах играет каждый из музыкантов, если каждый владеет двумя инструментам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1600200"/>
          <a:ext cx="8569440" cy="384804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  <a:gridCol w="1225440"/>
                <a:gridCol w="1224000"/>
                <a:gridCol w="1224000"/>
                <a:gridCol w="1224000"/>
              </a:tblGrid>
              <a:tr h="961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крип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лей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ь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р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об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6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рау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61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61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с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Schoolbook"/>
              </a:rPr>
              <a:t>ПРАКТИЧЕСКАЯ РАБОТ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Picture 5" descr="https://www.angstrem-mebel.ru/upload/medialibrary/64b/64b81188f4921169c47fcd7442479056.jp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entury Schoolbook"/>
              </a:rPr>
              <a:t>ДОМАШНЯЯ БИБЛИОТЕ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50920" y="765000"/>
            <a:ext cx="84247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крыть программу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icrosoft Wor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строить табличную модель по заданной словесной модел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50920" y="3068640"/>
          <a:ext cx="8353440" cy="3168720"/>
        </p:xfrm>
        <a:graphic>
          <a:graphicData uri="http://schemas.openxmlformats.org/drawingml/2006/table">
            <a:tbl>
              <a:tblPr/>
              <a:tblGrid>
                <a:gridCol w="1431720"/>
                <a:gridCol w="2745000"/>
                <a:gridCol w="2087640"/>
                <a:gridCol w="2089080"/>
              </a:tblGrid>
              <a:tr h="120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вание произ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д и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ан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9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Picture 2" descr="G:\книга\4.jpg"/>
          <p:cNvPicPr/>
          <p:nvPr/>
        </p:nvPicPr>
        <p:blipFill>
          <a:blip r:embed="rId1"/>
          <a:srcRect l="0" t="24228" r="0" b="41793"/>
          <a:stretch/>
        </p:blipFill>
        <p:spPr>
          <a:xfrm>
            <a:off x="0" y="1628640"/>
            <a:ext cx="896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Прямоугольник 1" descr=""/>
          <p:cNvPicPr/>
          <p:nvPr/>
        </p:nvPicPr>
        <p:blipFill>
          <a:blip r:embed="rId1"/>
          <a:stretch/>
        </p:blipFill>
        <p:spPr>
          <a:xfrm>
            <a:off x="596880" y="2048040"/>
            <a:ext cx="7724880" cy="9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ДОМАШНЕЕ ЗАДАНИЕ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TextBox 2"/>
          <p:cNvSpPr/>
          <p:nvPr/>
        </p:nvSpPr>
        <p:spPr>
          <a:xfrm>
            <a:off x="250920" y="17733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ридумать и написать 3 примера логических задач для решения табличным спосо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-25236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Полярная звезда находится в созвездии Малая Медведица. Бетельгейзе находится в созвездии Орион. Расстояние до Спики — 260 световых лет. Денеб находится в созвездии Лебедь. Акрукс ярче Солнца в 2200 раз. Расстояние до Бетельгейзе — 650 световых лет. Ригель ярче Солнца в 55 000 раз. Канопус находится в созвездии Стрекоза. Расстояние до Капеллы — 46 световых лет. Спика находится в созвездии Дева. Антарес находится в созвездии Скорпион. Расстояние до Арктура —36 световых лет. Альдебаран ярче Солнца в 165 раз. Бетельгейзе ярче Солнца в 22 000 раз. Расстояние до Акрукса — 260 световых лет. Денеб ярче Солнца в 72 500 раз. Расстояние до Антареса — 425 световых лет. Альдебаран находится в созвездии Телец. Антарес ярче Солнца в 6600 раз. Расстояние до Канопуса — 181 световой год. Арктур находится в созвездии Волопас. Капелла ярче Солнца в 150 раз. Расстояние до Полярной звезды — 780 световых лет. Ригель находится в созвездии Орион. Спика ярче Солнца в 2200 раз. Акрукс находится в созвездии Южный Крест. Расстояние до Альдебарана — 70 световых лет. Арктур ярче Солнца в 105 раз. Расстояние до Денеба — 1600 световых лет. Канопус ярче Солнца в 6600 раз. Капелла находится в созвездии Возничий. Полярная звезда ярче Солнца в 6000 раз. Расстояние до Ригеля — 820 световых лет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-341280"/>
          <a:ext cx="9144000" cy="71992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476280">
                <a:tc gridSpan="4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вание звез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звезд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стояние от Солнца, св.г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ркость , ярк.Солн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лярная звез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лая Медведи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8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тельгейз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рио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п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не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бед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2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крук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Южный Кре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8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иге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рио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5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нопу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реко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8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пел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знич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таре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корпио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ркту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лопа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ьдебар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еле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339640" y="5660640"/>
            <a:ext cx="617220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информатики МБОУ «Школа №55» Гарифуллина Р.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8" name="Подзаголовок 2"/>
          <p:cNvGrpSpPr/>
          <p:nvPr/>
        </p:nvGrpSpPr>
        <p:grpSpPr>
          <a:xfrm>
            <a:off x="85680" y="-268200"/>
            <a:ext cx="9077400" cy="2852640"/>
            <a:chOff x="85680" y="-268200"/>
            <a:chExt cx="9077400" cy="2852640"/>
          </a:xfrm>
        </p:grpSpPr>
        <p:pic>
          <p:nvPicPr>
            <p:cNvPr id="369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85680" y="-268200"/>
              <a:ext cx="907740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1111000">
              <a:off x="394920" y="593280"/>
              <a:ext cx="84582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575f6d"/>
                  </a:solidFill>
                  <a:latin typeface="Times New Roman"/>
                  <a:ea typeface="Times New Roman"/>
                </a:rPr>
                <a:t>Табличные модел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2" descr="http://stylescomp.ru/images/info/06042011/1630_2.png"/>
          <p:cNvPicPr/>
          <p:nvPr/>
        </p:nvPicPr>
        <p:blipFill>
          <a:blip r:embed="rId2"/>
          <a:stretch/>
        </p:blipFill>
        <p:spPr>
          <a:xfrm>
            <a:off x="4645080" y="2133720"/>
            <a:ext cx="402912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403280" y="549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Формы информационных мод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 rot="1579200">
            <a:off x="2065320" y="1882800"/>
            <a:ext cx="353880" cy="797040"/>
          </a:xfrm>
          <a:prstGeom prst="downArrow">
            <a:avLst>
              <a:gd name="adj1" fmla="val 43139"/>
              <a:gd name="adj2" fmla="val 51782"/>
            </a:avLst>
          </a:prstGeom>
          <a:solidFill>
            <a:srgbClr val="fff39d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3908520" y="2082960"/>
            <a:ext cx="358560" cy="790560"/>
          </a:xfrm>
          <a:prstGeom prst="downArrow">
            <a:avLst>
              <a:gd name="adj1" fmla="val 43139"/>
              <a:gd name="adj2" fmla="val 50690"/>
            </a:avLst>
          </a:prstGeom>
          <a:solidFill>
            <a:srgbClr val="fff39d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5796000" y="2060640"/>
            <a:ext cx="360360" cy="792000"/>
          </a:xfrm>
          <a:prstGeom prst="downArrow">
            <a:avLst>
              <a:gd name="adj1" fmla="val 43139"/>
              <a:gd name="adj2" fmla="val 50529"/>
            </a:avLst>
          </a:prstGeom>
          <a:solidFill>
            <a:srgbClr val="fff39d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 rot="20116200">
            <a:off x="7456320" y="1951200"/>
            <a:ext cx="333720" cy="777600"/>
          </a:xfrm>
          <a:prstGeom prst="downArrow">
            <a:avLst>
              <a:gd name="adj1" fmla="val 43139"/>
              <a:gd name="adj2" fmla="val 53570"/>
            </a:avLst>
          </a:prstGeom>
          <a:solidFill>
            <a:srgbClr val="fff39d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826920" y="2852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аф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3059280" y="3068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ове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788000" y="306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7308720" y="3068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абл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684360" y="3573360"/>
            <a:ext cx="176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хема, граф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еж, карта, гра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0"/>
          <p:cNvSpPr/>
          <p:nvPr/>
        </p:nvSpPr>
        <p:spPr>
          <a:xfrm>
            <a:off x="3260520" y="3449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ловес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5"/>
          <p:cNvSpPr/>
          <p:nvPr/>
        </p:nvSpPr>
        <p:spPr>
          <a:xfrm>
            <a:off x="7308720" y="2997360"/>
            <a:ext cx="151128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0"/>
          <p:cNvSpPr/>
          <p:nvPr/>
        </p:nvSpPr>
        <p:spPr>
          <a:xfrm>
            <a:off x="5364000" y="566100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5435640" y="3573360"/>
                <a:ext cx="12128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00000"/>
                </a:solidFill>
                <a:uFillTx/>
                <a:latin typeface="Century Schoolbook"/>
              </a:rPr>
              <a:t>ЦЕЛЬ УРОКА:</a:t>
            </a:r>
            <a:r>
              <a:rPr b="1" lang="ru-RU" sz="54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знакомиться с понятием «табличная модель» и формировать умение строить табличные модел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Пятиугольник 3" descr=""/>
          <p:cNvPicPr/>
          <p:nvPr/>
        </p:nvPicPr>
        <p:blipFill>
          <a:blip r:embed="rId1"/>
          <a:stretch/>
        </p:blipFill>
        <p:spPr>
          <a:xfrm>
            <a:off x="-92160" y="858960"/>
            <a:ext cx="9333000" cy="2146320"/>
          </a:xfrm>
          <a:prstGeom prst="rect">
            <a:avLst/>
          </a:prstGeom>
          <a:ln w="0">
            <a:noFill/>
          </a:ln>
        </p:spPr>
      </p:pic>
      <p:pic>
        <p:nvPicPr>
          <p:cNvPr id="393" name="Пятиугольник 4" descr=""/>
          <p:cNvPicPr/>
          <p:nvPr/>
        </p:nvPicPr>
        <p:blipFill>
          <a:blip r:embed="rId2"/>
          <a:stretch/>
        </p:blipFill>
        <p:spPr>
          <a:xfrm>
            <a:off x="-92160" y="2371680"/>
            <a:ext cx="9259920" cy="2144880"/>
          </a:xfrm>
          <a:prstGeom prst="rect">
            <a:avLst/>
          </a:prstGeom>
          <a:ln w="0">
            <a:noFill/>
          </a:ln>
        </p:spPr>
      </p:pic>
      <p:pic>
        <p:nvPicPr>
          <p:cNvPr id="394" name="Пятиугольник 5" descr=""/>
          <p:cNvPicPr/>
          <p:nvPr/>
        </p:nvPicPr>
        <p:blipFill>
          <a:blip r:embed="rId3"/>
          <a:stretch/>
        </p:blipFill>
        <p:spPr>
          <a:xfrm>
            <a:off x="-92160" y="4022640"/>
            <a:ext cx="9113760" cy="1414440"/>
          </a:xfrm>
          <a:prstGeom prst="rect">
            <a:avLst/>
          </a:prstGeom>
          <a:ln w="0">
            <a:noFill/>
          </a:ln>
        </p:spPr>
      </p:pic>
      <p:sp>
        <p:nvSpPr>
          <p:cNvPr id="395" name="Блок-схема: узел 6">
            <a:hlinkClick r:id="rId4" action="ppaction://hlinksldjump"/>
          </p:cNvPr>
          <p:cNvSpPr/>
          <p:nvPr/>
        </p:nvSpPr>
        <p:spPr>
          <a:xfrm>
            <a:off x="8172360" y="5732640"/>
            <a:ext cx="503280" cy="50472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496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ТАБЛИЦА ТИПА «ОБЪЕКТ-СВОЙСТВО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2349360"/>
          <a:ext cx="8748720" cy="2808360"/>
        </p:xfrm>
        <a:graphic>
          <a:graphicData uri="http://schemas.openxmlformats.org/drawingml/2006/table">
            <a:tbl>
              <a:tblPr/>
              <a:tblGrid>
                <a:gridCol w="1749600"/>
                <a:gridCol w="1527120"/>
                <a:gridCol w="1973160"/>
                <a:gridCol w="1749240"/>
                <a:gridCol w="1749600"/>
              </a:tblGrid>
              <a:tr h="720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Темп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ла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c84"/>
                    </a:solidFill>
                  </a:tcPr>
                </a:tc>
              </a:tr>
              <a:tr h="417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.03.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н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417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.03.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з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17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.03.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у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417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.03.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ж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17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.03.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з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7d9"/>
                    </a:solidFill>
                  </a:tcPr>
                </a:tc>
              </a:tr>
            </a:tbl>
          </a:graphicData>
        </a:graphic>
      </p:graphicFrame>
      <p:sp>
        <p:nvSpPr>
          <p:cNvPr id="399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423280" y="635328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9T16:47:21Z</dcterms:created>
  <dc:creator>GRM</dc:creator>
  <dc:description/>
  <dc:language>en-US</dc:language>
  <cp:lastModifiedBy>Teacher 1</cp:lastModifiedBy>
  <dcterms:modified xsi:type="dcterms:W3CDTF">2022-03-10T06:38:57Z</dcterms:modified>
  <cp:revision>46</cp:revision>
  <dc:subject/>
  <dc:title>Слайд 1</dc:title>
</cp:coreProperties>
</file>